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wmf" ContentType="image/x-wmf"/>
  <Override PartName="/ppt/media/image39.wmf" ContentType="image/x-wmf"/>
  <Override PartName="/ppt/media/image9.wmf" ContentType="image/x-wmf"/>
  <Override PartName="/ppt/media/image12.png" ContentType="image/png"/>
  <Override PartName="/ppt/media/image35.wmf" ContentType="image/x-wmf"/>
  <Override PartName="/ppt/media/image41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0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DFD-309B-41AF-B087-9ECE8F08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021-E64E-4483-8AAF-1300749E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6D1-1FC6-4E81-844E-1795DEF8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C05-DAF8-4D38-B889-4CAEA071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463-AC7D-4C19-854C-3AE5826A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F43-7AA2-4F2D-A80B-44BC3206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7D8-8321-4AFE-982D-9212D74E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B2B-88AF-4297-8815-97CA4451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7E9-950B-4F4C-9817-89FBBD9A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9F5-707E-4C6B-BD54-E6CF9C1C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880-6C5E-4C22-A60B-FBB24B27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B3A-811C-42DA-92E4-1CE21318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F658-D271-4268-A558-26CF33954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720" y="95400"/>
            <a:ext cx="58194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RIES PARALLEL RESISTOR COMBI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6858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P TO NOW WE HAVE STUDIED CIRCUIT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ANALYZED WITH ONE APPLIC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VL(SINGLE LOOP) OR KCL(SINGLE NODE-PAI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0280" y="16002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HAVE ALSO SEEN THAT IN SOM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 IS ADVANTAGEOUS TO COMBINE RESIS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SIMPLIFY THE ANALYSIS OF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70280" y="2563920"/>
            <a:ext cx="5179320" cy="13107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W WE EXAMINE SOME MORE COMPLEX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ERE WE CAN SIMPLIFY THE ANALYSIS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ECHNIQUE OF COMBINING RESISTOR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LUS THE USE OF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57240" y="3886200"/>
            <a:ext cx="3614760" cy="2239920"/>
            <a:chOff x="957240" y="3886200"/>
            <a:chExt cx="3614760" cy="2239920"/>
          </a:xfrm>
        </p:grpSpPr>
        <p:graphicFrame>
          <p:nvGraphicFramePr>
            <p:cNvPr id="46" name=""/>
            <p:cNvGraphicFramePr/>
            <p:nvPr/>
          </p:nvGraphicFramePr>
          <p:xfrm>
            <a:off x="1033560" y="4120920"/>
            <a:ext cx="3252600" cy="70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33560" y="4120920"/>
                      <a:ext cx="3252600" cy="700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1356840" y="3886200"/>
              <a:ext cx="220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ERIES COMBIN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957240" y="5105160"/>
            <a:ext cx="3614760" cy="102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7240" y="5105160"/>
                      <a:ext cx="3614760" cy="1020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189080" y="4892400"/>
              <a:ext cx="2314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PARALLEL 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724280" y="5410080"/>
                <a:ext cx="3432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2514600" y="380880"/>
          <a:ext cx="4724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0880"/>
                    <a:ext cx="4724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8720" y="152280"/>
            <a:ext cx="3594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 EXAMPLE OF “BACKTRACK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23960" y="3571920"/>
          <a:ext cx="479124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960" y="3571920"/>
                    <a:ext cx="4791240" cy="542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690640" y="4114800"/>
            <a:ext cx="44481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STRATEGY.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LWAYS ASK: “WHAT ELSE CA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UTE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819520" y="4702320"/>
                <a:ext cx="104112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19520" y="5029200"/>
                <a:ext cx="647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3886200" y="1638360"/>
            <a:ext cx="685800" cy="1562040"/>
            <a:chOff x="3886200" y="1638360"/>
            <a:chExt cx="685800" cy="1562040"/>
          </a:xfrm>
        </p:grpSpPr>
        <p:sp>
          <p:nvSpPr>
            <p:cNvPr id="227" name=""/>
            <p:cNvSpPr/>
            <p:nvPr/>
          </p:nvSpPr>
          <p:spPr>
            <a:xfrm>
              <a:off x="4038480" y="1676520"/>
              <a:ext cx="533520" cy="1523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3886200" y="1638360"/>
                  <a:ext cx="5079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819520" y="5562720"/>
                <a:ext cx="1143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181480" y="1600200"/>
                <a:ext cx="7365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19520" y="5943600"/>
                <a:ext cx="10666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55920" y="1054080"/>
                <a:ext cx="303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724280" y="2743200"/>
                <a:ext cx="3556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876920" y="4635360"/>
                <a:ext cx="11430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029200" y="838080"/>
                <a:ext cx="73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876920" y="4971960"/>
                <a:ext cx="761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95880" y="457200"/>
                <a:ext cx="7621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876920" y="5562720"/>
                <a:ext cx="1073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124080" y="762120"/>
                <a:ext cx="8384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876920" y="5886360"/>
                <a:ext cx="220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228760" y="22050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2" name=""/>
          <p:cNvGrpSpPr/>
          <p:nvPr/>
        </p:nvGrpSpPr>
        <p:grpSpPr>
          <a:xfrm>
            <a:off x="5257800" y="2133720"/>
            <a:ext cx="1523880" cy="1143000"/>
            <a:chOff x="5257800" y="2133720"/>
            <a:chExt cx="1523880" cy="1143000"/>
          </a:xfrm>
        </p:grpSpPr>
        <p:sp>
          <p:nvSpPr>
            <p:cNvPr id="243" name=""/>
            <p:cNvSpPr/>
            <p:nvPr/>
          </p:nvSpPr>
          <p:spPr>
            <a:xfrm>
              <a:off x="5257800" y="2133720"/>
              <a:ext cx="990720" cy="11430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5791320" y="2819520"/>
                  <a:ext cx="9903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68120" y="228600"/>
            <a:ext cx="4023000" cy="1820880"/>
            <a:chOff x="168120" y="228600"/>
            <a:chExt cx="4023000" cy="1820880"/>
          </a:xfrm>
        </p:grpSpPr>
        <p:graphicFrame>
          <p:nvGraphicFramePr>
            <p:cNvPr id="249" name=""/>
            <p:cNvGraphicFramePr/>
            <p:nvPr/>
          </p:nvGraphicFramePr>
          <p:xfrm>
            <a:off x="168120" y="380880"/>
            <a:ext cx="4023000" cy="16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120" y="380880"/>
                      <a:ext cx="4023000" cy="1668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930240" y="228600"/>
                  <a:ext cx="736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28600" y="2209680"/>
                <a:ext cx="2666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RATEGY:  FIND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 VOLTAGE 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981080" y="304920"/>
                <a:ext cx="219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357280" y="228600"/>
            <a:ext cx="1216080" cy="1525680"/>
            <a:chOff x="2357280" y="228600"/>
            <a:chExt cx="1216080" cy="1525680"/>
          </a:xfrm>
        </p:grpSpPr>
        <p:sp>
          <p:nvSpPr>
            <p:cNvPr id="255" name=""/>
            <p:cNvSpPr/>
            <p:nvPr/>
          </p:nvSpPr>
          <p:spPr>
            <a:xfrm>
              <a:off x="2357280" y="455760"/>
              <a:ext cx="1216080" cy="1298520"/>
            </a:xfrm>
            <a:custGeom>
              <a:avLst/>
              <a:gdLst/>
              <a:ahLst/>
              <a:rect l="l" t="t" r="r" b="b"/>
              <a:pathLst>
                <a:path w="768" h="816">
                  <a:moveTo>
                    <a:pt x="16" y="32"/>
                  </a:moveTo>
                  <a:cubicBezTo>
                    <a:pt x="12" y="145"/>
                    <a:pt x="0" y="261"/>
                    <a:pt x="0" y="374"/>
                  </a:cubicBezTo>
                  <a:cubicBezTo>
                    <a:pt x="61" y="389"/>
                    <a:pt x="116" y="398"/>
                    <a:pt x="180" y="398"/>
                  </a:cubicBezTo>
                  <a:lnTo>
                    <a:pt x="144" y="816"/>
                  </a:lnTo>
                  <a:lnTo>
                    <a:pt x="768" y="816"/>
                  </a:lnTo>
                  <a:lnTo>
                    <a:pt x="768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3124080" y="228600"/>
                  <a:ext cx="4050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7" name=""/>
          <p:cNvSpPr/>
          <p:nvPr/>
        </p:nvSpPr>
        <p:spPr>
          <a:xfrm>
            <a:off x="1752480" y="152280"/>
            <a:ext cx="1981440" cy="2210040"/>
          </a:xfrm>
          <a:custGeom>
            <a:avLst/>
            <a:gdLst/>
            <a:ahLst/>
            <a:rect l="l" t="t" r="r" b="b"/>
            <a:pathLst>
              <a:path w="1248" h="1392">
                <a:moveTo>
                  <a:pt x="1200" y="0"/>
                </a:moveTo>
                <a:lnTo>
                  <a:pt x="48" y="48"/>
                </a:lnTo>
                <a:lnTo>
                  <a:pt x="0" y="1008"/>
                </a:lnTo>
                <a:lnTo>
                  <a:pt x="1248" y="1392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048120" y="2133720"/>
                <a:ext cx="151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9" name=""/>
          <p:cNvGraphicFramePr/>
          <p:nvPr/>
        </p:nvGraphicFramePr>
        <p:xfrm>
          <a:off x="76320" y="3164040"/>
          <a:ext cx="3047760" cy="18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164040"/>
                    <a:ext cx="3047760" cy="1882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200400" y="3733920"/>
                <a:ext cx="2070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09680" y="3049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04920" y="5181480"/>
                <a:ext cx="20574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OLTAGE  DIVIDE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657600" y="14479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4876920" y="533520"/>
          <a:ext cx="4038480" cy="196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33520"/>
                    <a:ext cx="4038480" cy="1963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724280" y="457200"/>
                <a:ext cx="876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832280" y="2590920"/>
            <a:ext cx="339732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N INVERSE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AT CAN BE COMPU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389640" y="121932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7031160" y="1066680"/>
            <a:ext cx="893520" cy="304920"/>
            <a:chOff x="7031160" y="1066680"/>
            <a:chExt cx="893520" cy="304920"/>
          </a:xfrm>
        </p:grpSpPr>
        <p:sp>
          <p:nvSpPr>
            <p:cNvPr id="271" name=""/>
            <p:cNvSpPr/>
            <p:nvPr/>
          </p:nvSpPr>
          <p:spPr>
            <a:xfrm>
              <a:off x="7162920" y="1066680"/>
              <a:ext cx="761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7031160" y="1143000"/>
                  <a:ext cx="772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3" name=""/>
          <p:cNvSpPr/>
          <p:nvPr/>
        </p:nvSpPr>
        <p:spPr>
          <a:xfrm>
            <a:off x="5662440" y="114300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551560" y="1143000"/>
                <a:ext cx="772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781680" y="609480"/>
                <a:ext cx="1575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8229600" y="990720"/>
            <a:ext cx="914400" cy="609480"/>
            <a:chOff x="8229600" y="990720"/>
            <a:chExt cx="914400" cy="609480"/>
          </a:xfrm>
        </p:grpSpPr>
        <p:sp>
          <p:nvSpPr>
            <p:cNvPr id="277" name=""/>
            <p:cNvSpPr/>
            <p:nvPr/>
          </p:nvSpPr>
          <p:spPr>
            <a:xfrm>
              <a:off x="8229600" y="10666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8229600" y="990720"/>
                  <a:ext cx="914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019920" y="32767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029200" y="19051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972200" y="5715000"/>
            <a:ext cx="1155960" cy="1143000"/>
            <a:chOff x="7972200" y="5715000"/>
            <a:chExt cx="1155960" cy="1143000"/>
          </a:xfrm>
        </p:grpSpPr>
        <p:pic>
          <p:nvPicPr>
            <p:cNvPr id="283" name="" descr=""/>
            <p:cNvPicPr/>
            <p:nvPr/>
          </p:nvPicPr>
          <p:blipFill>
            <a:blip r:embed="rId7"/>
            <a:stretch/>
          </p:blipFill>
          <p:spPr>
            <a:xfrm>
              <a:off x="838188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972200" y="5715000"/>
              <a:ext cx="115596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523880" y="233280"/>
                <a:ext cx="609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NSFORMATION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6" name=""/>
          <p:cNvGraphicFramePr/>
          <p:nvPr/>
        </p:nvGraphicFramePr>
        <p:xfrm>
          <a:off x="0" y="990720"/>
          <a:ext cx="4522680" cy="31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452268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83120" y="411480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CIRCUIT HAS NO RESISTOR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RIES 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4640" y="4800600"/>
            <a:ext cx="6124320" cy="2050920"/>
            <a:chOff x="44640" y="4800600"/>
            <a:chExt cx="6124320" cy="2050920"/>
          </a:xfrm>
        </p:grpSpPr>
        <p:graphicFrame>
          <p:nvGraphicFramePr>
            <p:cNvPr id="290" name=""/>
            <p:cNvGraphicFramePr/>
            <p:nvPr/>
          </p:nvGraphicFramePr>
          <p:xfrm>
            <a:off x="380880" y="4800600"/>
            <a:ext cx="5788080" cy="205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800600"/>
                      <a:ext cx="5788080" cy="20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"/>
            <p:cNvSpPr/>
            <p:nvPr/>
          </p:nvSpPr>
          <p:spPr>
            <a:xfrm>
              <a:off x="44640" y="4876920"/>
              <a:ext cx="140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F INST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F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84520" y="4941720"/>
              <a:ext cx="1278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E C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HAV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545000" y="1066680"/>
            <a:ext cx="4522680" cy="4191840"/>
            <a:chOff x="4545000" y="1066680"/>
            <a:chExt cx="4522680" cy="4191840"/>
          </a:xfrm>
        </p:grpSpPr>
        <p:grpSp>
          <p:nvGrpSpPr>
            <p:cNvPr id="295" name=""/>
            <p:cNvGrpSpPr/>
            <p:nvPr/>
          </p:nvGrpSpPr>
          <p:grpSpPr>
            <a:xfrm>
              <a:off x="4545000" y="1066680"/>
              <a:ext cx="4522680" cy="3106800"/>
              <a:chOff x="4545000" y="1066680"/>
              <a:chExt cx="4522680" cy="3106800"/>
            </a:xfrm>
          </p:grpSpPr>
          <p:graphicFrame>
            <p:nvGraphicFramePr>
              <p:cNvPr id="296" name=""/>
              <p:cNvGraphicFramePr/>
              <p:nvPr/>
            </p:nvGraphicFramePr>
            <p:xfrm>
              <a:off x="4545000" y="1066680"/>
              <a:ext cx="4522680" cy="3106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9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45000" y="1066680"/>
                        <a:ext cx="4522680" cy="3106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8" name=""/>
              <p:cNvGraphicFramePr/>
              <p:nvPr/>
            </p:nvGraphicFramePr>
            <p:xfrm>
              <a:off x="6831000" y="1447920"/>
              <a:ext cx="2133720" cy="111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9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31000" y="1447920"/>
                        <a:ext cx="2133720" cy="111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00" name=""/>
            <p:cNvSpPr/>
            <p:nvPr/>
          </p:nvSpPr>
          <p:spPr>
            <a:xfrm>
              <a:off x="5568120" y="4191120"/>
              <a:ext cx="310680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N THE CIRCUIT W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COME LIKE THIS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 AMENABLE TO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 TRANSFOR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9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6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10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2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13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5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16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90920" y="318780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343400" y="31240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705720" y="31240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363560" y="3753000"/>
            <a:ext cx="469188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PLACE IN THE THIRD AND SOLVE FOR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334120" y="4114800"/>
                <a:ext cx="245088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76320" y="990720"/>
          <a:ext cx="3276360" cy="29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90720"/>
                    <a:ext cx="327636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99720" y="95400"/>
            <a:ext cx="713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: APPLICATION OF WYE-DELTA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9480" y="609480"/>
                <a:ext cx="1282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MPUTE 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1496880" y="598320"/>
            <a:ext cx="3670920" cy="2148120"/>
            <a:chOff x="1496880" y="598320"/>
            <a:chExt cx="3670920" cy="2148120"/>
          </a:xfrm>
        </p:grpSpPr>
        <p:sp>
          <p:nvSpPr>
            <p:cNvPr id="335" name=""/>
            <p:cNvSpPr/>
            <p:nvPr/>
          </p:nvSpPr>
          <p:spPr>
            <a:xfrm>
              <a:off x="1496880" y="797040"/>
              <a:ext cx="2152800" cy="1949400"/>
            </a:xfrm>
            <a:custGeom>
              <a:avLst/>
              <a:gdLst/>
              <a:ahLst/>
              <a:rect l="l" t="t" r="r" b="b"/>
              <a:pathLst>
                <a:path w="1356" h="1228">
                  <a:moveTo>
                    <a:pt x="1247" y="36"/>
                  </a:moveTo>
                  <a:cubicBezTo>
                    <a:pt x="1138" y="0"/>
                    <a:pt x="908" y="14"/>
                    <a:pt x="841" y="12"/>
                  </a:cubicBezTo>
                  <a:cubicBezTo>
                    <a:pt x="781" y="15"/>
                    <a:pt x="722" y="18"/>
                    <a:pt x="662" y="20"/>
                  </a:cubicBezTo>
                  <a:cubicBezTo>
                    <a:pt x="498" y="26"/>
                    <a:pt x="171" y="36"/>
                    <a:pt x="171" y="36"/>
                  </a:cubicBezTo>
                  <a:cubicBezTo>
                    <a:pt x="140" y="40"/>
                    <a:pt x="103" y="31"/>
                    <a:pt x="78" y="51"/>
                  </a:cubicBezTo>
                  <a:cubicBezTo>
                    <a:pt x="70" y="57"/>
                    <a:pt x="69" y="68"/>
                    <a:pt x="62" y="75"/>
                  </a:cubicBezTo>
                  <a:cubicBezTo>
                    <a:pt x="56" y="81"/>
                    <a:pt x="46" y="84"/>
                    <a:pt x="39" y="90"/>
                  </a:cubicBezTo>
                  <a:cubicBezTo>
                    <a:pt x="30" y="99"/>
                    <a:pt x="15" y="121"/>
                    <a:pt x="15" y="121"/>
                  </a:cubicBezTo>
                  <a:cubicBezTo>
                    <a:pt x="4" y="467"/>
                    <a:pt x="0" y="786"/>
                    <a:pt x="0" y="1142"/>
                  </a:cubicBezTo>
                  <a:cubicBezTo>
                    <a:pt x="272" y="1207"/>
                    <a:pt x="557" y="1192"/>
                    <a:pt x="834" y="1205"/>
                  </a:cubicBezTo>
                  <a:cubicBezTo>
                    <a:pt x="973" y="1221"/>
                    <a:pt x="1116" y="1228"/>
                    <a:pt x="1255" y="1228"/>
                  </a:cubicBezTo>
                  <a:cubicBezTo>
                    <a:pt x="1288" y="1079"/>
                    <a:pt x="1316" y="928"/>
                    <a:pt x="1332" y="776"/>
                  </a:cubicBezTo>
                  <a:cubicBezTo>
                    <a:pt x="1337" y="724"/>
                    <a:pt x="1343" y="672"/>
                    <a:pt x="1348" y="620"/>
                  </a:cubicBezTo>
                  <a:cubicBezTo>
                    <a:pt x="1351" y="594"/>
                    <a:pt x="1356" y="542"/>
                    <a:pt x="1356" y="542"/>
                  </a:cubicBezTo>
                  <a:cubicBezTo>
                    <a:pt x="1353" y="423"/>
                    <a:pt x="1353" y="303"/>
                    <a:pt x="1348" y="184"/>
                  </a:cubicBezTo>
                  <a:cubicBezTo>
                    <a:pt x="1347" y="159"/>
                    <a:pt x="1332" y="133"/>
                    <a:pt x="1332" y="1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6240" y="598320"/>
              <a:ext cx="2131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LTA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2320" y="9907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481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765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0" name=""/>
          <p:cNvGraphicFramePr/>
          <p:nvPr/>
        </p:nvGraphicFramePr>
        <p:xfrm>
          <a:off x="5029200" y="762120"/>
          <a:ext cx="2960640" cy="29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296064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2" name=""/>
          <p:cNvGrpSpPr/>
          <p:nvPr/>
        </p:nvGrpSpPr>
        <p:grpSpPr>
          <a:xfrm>
            <a:off x="1523880" y="762120"/>
            <a:ext cx="1827000" cy="1752120"/>
            <a:chOff x="1523880" y="762120"/>
            <a:chExt cx="1827000" cy="175212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1523880" y="2209680"/>
                  <a:ext cx="1638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 rot="10800000">
                  <a:off x="3200040" y="22856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2362320" y="7621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" name=""/>
          <p:cNvGrpSpPr/>
          <p:nvPr/>
        </p:nvGrpSpPr>
        <p:grpSpPr>
          <a:xfrm>
            <a:off x="5943600" y="533520"/>
            <a:ext cx="2131560" cy="2285640"/>
            <a:chOff x="5943600" y="533520"/>
            <a:chExt cx="2131560" cy="2285640"/>
          </a:xfrm>
        </p:grpSpPr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5943600" y="259092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 rot="10800000">
                  <a:off x="7924320" y="259056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6858000" y="5335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"/>
          <p:cNvGrpSpPr/>
          <p:nvPr/>
        </p:nvGrpSpPr>
        <p:grpSpPr>
          <a:xfrm>
            <a:off x="4984920" y="1757520"/>
            <a:ext cx="3587760" cy="2292120"/>
            <a:chOff x="4984920" y="1757520"/>
            <a:chExt cx="3587760" cy="2292120"/>
          </a:xfrm>
        </p:grpSpPr>
        <p:sp>
          <p:nvSpPr>
            <p:cNvPr id="351" name=""/>
            <p:cNvSpPr/>
            <p:nvPr/>
          </p:nvSpPr>
          <p:spPr>
            <a:xfrm>
              <a:off x="4984920" y="1757520"/>
              <a:ext cx="1336680" cy="2101680"/>
            </a:xfrm>
            <a:custGeom>
              <a:avLst/>
              <a:gdLst/>
              <a:ahLst/>
              <a:rect l="l" t="t" r="r" b="b"/>
              <a:pathLst>
                <a:path w="842" h="1324">
                  <a:moveTo>
                    <a:pt x="32" y="1324"/>
                  </a:moveTo>
                  <a:cubicBezTo>
                    <a:pt x="25" y="1096"/>
                    <a:pt x="16" y="867"/>
                    <a:pt x="8" y="639"/>
                  </a:cubicBezTo>
                  <a:cubicBezTo>
                    <a:pt x="5" y="473"/>
                    <a:pt x="0" y="306"/>
                    <a:pt x="0" y="140"/>
                  </a:cubicBezTo>
                  <a:cubicBezTo>
                    <a:pt x="0" y="101"/>
                    <a:pt x="8" y="23"/>
                    <a:pt x="8" y="23"/>
                  </a:cubicBezTo>
                  <a:cubicBezTo>
                    <a:pt x="291" y="4"/>
                    <a:pt x="550" y="0"/>
                    <a:pt x="84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5029200" y="3733920"/>
                  <a:ext cx="354348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r>
                            <m:t xml:space="preserve">k</m:t>
                          </m:r>
                        </m:e>
                      </m:d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259092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828800" y="13716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666880" y="214776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200400" y="15238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6154560" y="1371600"/>
            <a:ext cx="2824200" cy="1425600"/>
            <a:chOff x="6154560" y="1371600"/>
            <a:chExt cx="2824200" cy="142560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7391520" y="1371600"/>
                  <a:ext cx="1587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×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"/>
            <p:cNvSpPr/>
            <p:nvPr/>
          </p:nvSpPr>
          <p:spPr>
            <a:xfrm>
              <a:off x="6154560" y="1706400"/>
              <a:ext cx="1206720" cy="1090800"/>
            </a:xfrm>
            <a:custGeom>
              <a:avLst/>
              <a:gdLst/>
              <a:ahLst/>
              <a:rect l="l" t="t" r="r" b="b"/>
              <a:pathLst>
                <a:path w="760" h="687">
                  <a:moveTo>
                    <a:pt x="588" y="507"/>
                  </a:moveTo>
                  <a:cubicBezTo>
                    <a:pt x="540" y="433"/>
                    <a:pt x="420" y="399"/>
                    <a:pt x="339" y="375"/>
                  </a:cubicBezTo>
                  <a:cubicBezTo>
                    <a:pt x="301" y="350"/>
                    <a:pt x="258" y="351"/>
                    <a:pt x="214" y="343"/>
                  </a:cubicBezTo>
                  <a:cubicBezTo>
                    <a:pt x="149" y="348"/>
                    <a:pt x="75" y="326"/>
                    <a:pt x="19" y="359"/>
                  </a:cubicBezTo>
                  <a:cubicBezTo>
                    <a:pt x="0" y="370"/>
                    <a:pt x="33" y="478"/>
                    <a:pt x="43" y="507"/>
                  </a:cubicBezTo>
                  <a:cubicBezTo>
                    <a:pt x="45" y="525"/>
                    <a:pt x="43" y="545"/>
                    <a:pt x="50" y="562"/>
                  </a:cubicBezTo>
                  <a:cubicBezTo>
                    <a:pt x="54" y="572"/>
                    <a:pt x="67" y="577"/>
                    <a:pt x="74" y="585"/>
                  </a:cubicBezTo>
                  <a:cubicBezTo>
                    <a:pt x="82" y="595"/>
                    <a:pt x="86" y="609"/>
                    <a:pt x="97" y="616"/>
                  </a:cubicBezTo>
                  <a:cubicBezTo>
                    <a:pt x="116" y="628"/>
                    <a:pt x="140" y="630"/>
                    <a:pt x="160" y="639"/>
                  </a:cubicBezTo>
                  <a:cubicBezTo>
                    <a:pt x="216" y="664"/>
                    <a:pt x="259" y="672"/>
                    <a:pt x="323" y="678"/>
                  </a:cubicBezTo>
                  <a:cubicBezTo>
                    <a:pt x="391" y="673"/>
                    <a:pt x="462" y="687"/>
                    <a:pt x="526" y="663"/>
                  </a:cubicBezTo>
                  <a:cubicBezTo>
                    <a:pt x="549" y="654"/>
                    <a:pt x="549" y="593"/>
                    <a:pt x="549" y="593"/>
                  </a:cubicBezTo>
                  <a:cubicBezTo>
                    <a:pt x="567" y="451"/>
                    <a:pt x="588" y="300"/>
                    <a:pt x="635" y="164"/>
                  </a:cubicBezTo>
                  <a:cubicBezTo>
                    <a:pt x="644" y="111"/>
                    <a:pt x="649" y="108"/>
                    <a:pt x="682" y="71"/>
                  </a:cubicBezTo>
                  <a:cubicBezTo>
                    <a:pt x="695" y="57"/>
                    <a:pt x="727" y="0"/>
                    <a:pt x="760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6019920" y="762120"/>
            <a:ext cx="1904760" cy="2133360"/>
            <a:chOff x="6019920" y="762120"/>
            <a:chExt cx="1904760" cy="2133360"/>
          </a:xfrm>
        </p:grpSpPr>
        <p:sp>
          <p:nvSpPr>
            <p:cNvPr id="361" name=""/>
            <p:cNvSpPr/>
            <p:nvPr/>
          </p:nvSpPr>
          <p:spPr>
            <a:xfrm>
              <a:off x="6858000" y="7621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96080" y="26668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19920" y="274320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943600" y="411480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0" y="3917880"/>
            <a:ext cx="3365640" cy="2990880"/>
            <a:chOff x="0" y="3917880"/>
            <a:chExt cx="3365640" cy="2990880"/>
          </a:xfrm>
        </p:grpSpPr>
        <p:graphicFrame>
          <p:nvGraphicFramePr>
            <p:cNvPr id="366" name=""/>
            <p:cNvGraphicFramePr/>
            <p:nvPr/>
          </p:nvGraphicFramePr>
          <p:xfrm>
            <a:off x="0" y="3917880"/>
            <a:ext cx="3276720" cy="294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17880"/>
                      <a:ext cx="3276720" cy="294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"/>
            <p:cNvSpPr/>
            <p:nvPr/>
          </p:nvSpPr>
          <p:spPr>
            <a:xfrm flipH="1">
              <a:off x="1676520" y="39625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76520" y="53341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48120" y="3962520"/>
              <a:ext cx="317520" cy="2946240"/>
            </a:xfrm>
            <a:custGeom>
              <a:avLst/>
              <a:gdLst/>
              <a:ahLst/>
              <a:rect l="l" t="t" r="r" b="b"/>
              <a:pathLst>
                <a:path w="200" h="1856">
                  <a:moveTo>
                    <a:pt x="0" y="0"/>
                  </a:moveTo>
                  <a:cubicBezTo>
                    <a:pt x="92" y="288"/>
                    <a:pt x="184" y="576"/>
                    <a:pt x="192" y="864"/>
                  </a:cubicBezTo>
                  <a:cubicBezTo>
                    <a:pt x="200" y="1152"/>
                    <a:pt x="80" y="1600"/>
                    <a:pt x="48" y="1728"/>
                  </a:cubicBezTo>
                  <a:cubicBezTo>
                    <a:pt x="16" y="1856"/>
                    <a:pt x="8" y="1744"/>
                    <a:pt x="0" y="1632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267360" y="5932440"/>
            <a:ext cx="383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COULD ALSO US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YE - DELTA TRANSFORMATION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828440" y="1143000"/>
            <a:ext cx="1219680" cy="1219320"/>
            <a:chOff x="1828440" y="1143000"/>
            <a:chExt cx="1219680" cy="1219320"/>
          </a:xfrm>
        </p:grpSpPr>
        <p:sp>
          <p:nvSpPr>
            <p:cNvPr id="373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828440" y="1600200"/>
              <a:ext cx="6094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38280" y="1600200"/>
              <a:ext cx="6098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380880"/>
          <a:ext cx="57150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216720" y="65160"/>
            <a:ext cx="21315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81640" y="1274760"/>
            <a:ext cx="4589640" cy="1843200"/>
            <a:chOff x="4481640" y="1274760"/>
            <a:chExt cx="4589640" cy="1843200"/>
          </a:xfrm>
        </p:grpSpPr>
        <p:sp>
          <p:nvSpPr>
            <p:cNvPr id="383" name=""/>
            <p:cNvSpPr/>
            <p:nvPr/>
          </p:nvSpPr>
          <p:spPr>
            <a:xfrm>
              <a:off x="4481640" y="1274760"/>
              <a:ext cx="1199880" cy="1843200"/>
            </a:xfrm>
            <a:custGeom>
              <a:avLst/>
              <a:gdLst/>
              <a:ahLst/>
              <a:rect l="l" t="t" r="r" b="b"/>
              <a:pathLst>
                <a:path w="756" h="1161">
                  <a:moveTo>
                    <a:pt x="614" y="538"/>
                  </a:moveTo>
                  <a:cubicBezTo>
                    <a:pt x="622" y="487"/>
                    <a:pt x="640" y="438"/>
                    <a:pt x="642" y="387"/>
                  </a:cubicBezTo>
                  <a:cubicBezTo>
                    <a:pt x="644" y="321"/>
                    <a:pt x="640" y="254"/>
                    <a:pt x="633" y="188"/>
                  </a:cubicBezTo>
                  <a:cubicBezTo>
                    <a:pt x="616" y="34"/>
                    <a:pt x="487" y="17"/>
                    <a:pt x="359" y="0"/>
                  </a:cubicBezTo>
                  <a:cubicBezTo>
                    <a:pt x="280" y="6"/>
                    <a:pt x="238" y="7"/>
                    <a:pt x="170" y="28"/>
                  </a:cubicBezTo>
                  <a:cubicBezTo>
                    <a:pt x="106" y="93"/>
                    <a:pt x="137" y="71"/>
                    <a:pt x="85" y="103"/>
                  </a:cubicBezTo>
                  <a:cubicBezTo>
                    <a:pt x="79" y="116"/>
                    <a:pt x="71" y="128"/>
                    <a:pt x="66" y="141"/>
                  </a:cubicBezTo>
                  <a:cubicBezTo>
                    <a:pt x="59" y="160"/>
                    <a:pt x="48" y="198"/>
                    <a:pt x="48" y="198"/>
                  </a:cubicBezTo>
                  <a:cubicBezTo>
                    <a:pt x="45" y="223"/>
                    <a:pt x="43" y="248"/>
                    <a:pt x="38" y="273"/>
                  </a:cubicBezTo>
                  <a:cubicBezTo>
                    <a:pt x="33" y="299"/>
                    <a:pt x="19" y="349"/>
                    <a:pt x="19" y="349"/>
                  </a:cubicBezTo>
                  <a:cubicBezTo>
                    <a:pt x="0" y="510"/>
                    <a:pt x="4" y="443"/>
                    <a:pt x="19" y="717"/>
                  </a:cubicBezTo>
                  <a:cubicBezTo>
                    <a:pt x="19" y="726"/>
                    <a:pt x="29" y="785"/>
                    <a:pt x="38" y="802"/>
                  </a:cubicBezTo>
                  <a:cubicBezTo>
                    <a:pt x="77" y="875"/>
                    <a:pt x="118" y="929"/>
                    <a:pt x="180" y="982"/>
                  </a:cubicBezTo>
                  <a:cubicBezTo>
                    <a:pt x="216" y="1013"/>
                    <a:pt x="236" y="1056"/>
                    <a:pt x="274" y="1086"/>
                  </a:cubicBezTo>
                  <a:cubicBezTo>
                    <a:pt x="336" y="1135"/>
                    <a:pt x="405" y="1149"/>
                    <a:pt x="482" y="1161"/>
                  </a:cubicBezTo>
                  <a:cubicBezTo>
                    <a:pt x="517" y="1158"/>
                    <a:pt x="552" y="1159"/>
                    <a:pt x="586" y="1152"/>
                  </a:cubicBezTo>
                  <a:cubicBezTo>
                    <a:pt x="640" y="1141"/>
                    <a:pt x="612" y="1134"/>
                    <a:pt x="642" y="1104"/>
                  </a:cubicBezTo>
                  <a:cubicBezTo>
                    <a:pt x="650" y="1096"/>
                    <a:pt x="662" y="1093"/>
                    <a:pt x="671" y="1086"/>
                  </a:cubicBezTo>
                  <a:cubicBezTo>
                    <a:pt x="703" y="1060"/>
                    <a:pt x="737" y="982"/>
                    <a:pt x="737" y="982"/>
                  </a:cubicBezTo>
                  <a:cubicBezTo>
                    <a:pt x="741" y="941"/>
                    <a:pt x="756" y="900"/>
                    <a:pt x="756" y="859"/>
                  </a:cubicBezTo>
                  <a:cubicBezTo>
                    <a:pt x="756" y="777"/>
                    <a:pt x="744" y="704"/>
                    <a:pt x="709" y="632"/>
                  </a:cubicBezTo>
                  <a:cubicBezTo>
                    <a:pt x="692" y="596"/>
                    <a:pt x="666" y="511"/>
                    <a:pt x="614" y="53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76680" y="1436760"/>
              <a:ext cx="3594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HOULD KEEP THESE TWO NOD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262240" y="446040"/>
            <a:ext cx="4446720" cy="2581200"/>
            <a:chOff x="2262240" y="446040"/>
            <a:chExt cx="4446720" cy="2581200"/>
          </a:xfrm>
        </p:grpSpPr>
        <p:sp>
          <p:nvSpPr>
            <p:cNvPr id="386" name=""/>
            <p:cNvSpPr/>
            <p:nvPr/>
          </p:nvSpPr>
          <p:spPr>
            <a:xfrm>
              <a:off x="2262240" y="685800"/>
              <a:ext cx="1749240" cy="2341440"/>
            </a:xfrm>
            <a:custGeom>
              <a:avLst/>
              <a:gdLst/>
              <a:ahLst/>
              <a:rect l="l" t="t" r="r" b="b"/>
              <a:pathLst>
                <a:path w="1102" h="1475">
                  <a:moveTo>
                    <a:pt x="1077" y="786"/>
                  </a:moveTo>
                  <a:cubicBezTo>
                    <a:pt x="1102" y="693"/>
                    <a:pt x="1077" y="662"/>
                    <a:pt x="992" y="635"/>
                  </a:cubicBezTo>
                  <a:cubicBezTo>
                    <a:pt x="928" y="591"/>
                    <a:pt x="958" y="604"/>
                    <a:pt x="907" y="588"/>
                  </a:cubicBezTo>
                  <a:cubicBezTo>
                    <a:pt x="851" y="531"/>
                    <a:pt x="797" y="487"/>
                    <a:pt x="737" y="437"/>
                  </a:cubicBezTo>
                  <a:cubicBezTo>
                    <a:pt x="707" y="412"/>
                    <a:pt x="695" y="383"/>
                    <a:pt x="662" y="361"/>
                  </a:cubicBezTo>
                  <a:cubicBezTo>
                    <a:pt x="643" y="307"/>
                    <a:pt x="614" y="260"/>
                    <a:pt x="567" y="229"/>
                  </a:cubicBezTo>
                  <a:cubicBezTo>
                    <a:pt x="511" y="143"/>
                    <a:pt x="502" y="141"/>
                    <a:pt x="426" y="78"/>
                  </a:cubicBezTo>
                  <a:cubicBezTo>
                    <a:pt x="389" y="47"/>
                    <a:pt x="358" y="18"/>
                    <a:pt x="312" y="2"/>
                  </a:cubicBezTo>
                  <a:cubicBezTo>
                    <a:pt x="194" y="12"/>
                    <a:pt x="201" y="0"/>
                    <a:pt x="142" y="78"/>
                  </a:cubicBezTo>
                  <a:cubicBezTo>
                    <a:pt x="121" y="146"/>
                    <a:pt x="107" y="224"/>
                    <a:pt x="76" y="286"/>
                  </a:cubicBezTo>
                  <a:cubicBezTo>
                    <a:pt x="63" y="353"/>
                    <a:pt x="41" y="419"/>
                    <a:pt x="20" y="484"/>
                  </a:cubicBezTo>
                  <a:cubicBezTo>
                    <a:pt x="0" y="673"/>
                    <a:pt x="0" y="835"/>
                    <a:pt x="10" y="1032"/>
                  </a:cubicBezTo>
                  <a:cubicBezTo>
                    <a:pt x="13" y="1091"/>
                    <a:pt x="50" y="1160"/>
                    <a:pt x="76" y="1211"/>
                  </a:cubicBezTo>
                  <a:cubicBezTo>
                    <a:pt x="91" y="1240"/>
                    <a:pt x="124" y="1296"/>
                    <a:pt x="124" y="1296"/>
                  </a:cubicBezTo>
                  <a:cubicBezTo>
                    <a:pt x="150" y="1406"/>
                    <a:pt x="239" y="1451"/>
                    <a:pt x="341" y="1475"/>
                  </a:cubicBezTo>
                  <a:cubicBezTo>
                    <a:pt x="369" y="1472"/>
                    <a:pt x="399" y="1474"/>
                    <a:pt x="426" y="1466"/>
                  </a:cubicBezTo>
                  <a:cubicBezTo>
                    <a:pt x="460" y="1456"/>
                    <a:pt x="499" y="1393"/>
                    <a:pt x="511" y="1372"/>
                  </a:cubicBezTo>
                  <a:cubicBezTo>
                    <a:pt x="568" y="1274"/>
                    <a:pt x="600" y="1164"/>
                    <a:pt x="662" y="1069"/>
                  </a:cubicBezTo>
                  <a:cubicBezTo>
                    <a:pt x="672" y="1038"/>
                    <a:pt x="709" y="984"/>
                    <a:pt x="709" y="984"/>
                  </a:cubicBezTo>
                  <a:cubicBezTo>
                    <a:pt x="725" y="935"/>
                    <a:pt x="756" y="905"/>
                    <a:pt x="803" y="890"/>
                  </a:cubicBezTo>
                  <a:cubicBezTo>
                    <a:pt x="847" y="848"/>
                    <a:pt x="876" y="835"/>
                    <a:pt x="936" y="824"/>
                  </a:cubicBezTo>
                  <a:cubicBezTo>
                    <a:pt x="988" y="834"/>
                    <a:pt x="1031" y="855"/>
                    <a:pt x="1077" y="824"/>
                  </a:cubicBezTo>
                  <a:cubicBezTo>
                    <a:pt x="1089" y="792"/>
                    <a:pt x="1094" y="803"/>
                    <a:pt x="1077" y="78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4360" y="446040"/>
              <a:ext cx="3594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ONVERT THIS Y INTO A DELTA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1680" y="762120"/>
            <a:ext cx="8593200" cy="2612160"/>
            <a:chOff x="301680" y="762120"/>
            <a:chExt cx="8593200" cy="2612160"/>
          </a:xfrm>
        </p:grpSpPr>
        <p:grpSp>
          <p:nvGrpSpPr>
            <p:cNvPr id="389" name=""/>
            <p:cNvGrpSpPr/>
            <p:nvPr/>
          </p:nvGrpSpPr>
          <p:grpSpPr>
            <a:xfrm>
              <a:off x="2362320" y="762120"/>
              <a:ext cx="1431720" cy="1889280"/>
              <a:chOff x="2362320" y="762120"/>
              <a:chExt cx="1431720" cy="1889280"/>
            </a:xfrm>
          </p:grpSpPr>
          <p:graphicFrame>
            <p:nvGraphicFramePr>
              <p:cNvPr id="390" name=""/>
              <p:cNvGraphicFramePr/>
              <p:nvPr/>
            </p:nvGraphicFramePr>
            <p:xfrm>
              <a:off x="2895480" y="762120"/>
              <a:ext cx="898560" cy="898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95480" y="762120"/>
                        <a:ext cx="898560" cy="89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2" name=""/>
              <p:cNvGraphicFramePr/>
              <p:nvPr/>
            </p:nvGraphicFramePr>
            <p:xfrm>
              <a:off x="2895480" y="1752840"/>
              <a:ext cx="898560" cy="89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9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895480" y="1752840"/>
                        <a:ext cx="898560" cy="89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4" name=""/>
              <p:cNvGraphicFramePr/>
              <p:nvPr/>
            </p:nvGraphicFramePr>
            <p:xfrm>
              <a:off x="2362320" y="1295640"/>
              <a:ext cx="318960" cy="1006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9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362320" y="1295640"/>
                        <a:ext cx="318960" cy="100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96" name=""/>
            <p:cNvSpPr/>
            <p:nvPr/>
          </p:nvSpPr>
          <p:spPr>
            <a:xfrm>
              <a:off x="301680" y="3036960"/>
              <a:ext cx="859320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F WE CONVERT TO Y INTO A DELTA THERE ARE SERIES PARALLEL REDUCTION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0" y="3429000"/>
                <a:ext cx="245124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98" name=""/>
          <p:cNvGraphicFramePr/>
          <p:nvPr/>
        </p:nvGraphicFramePr>
        <p:xfrm>
          <a:off x="2514600" y="3454560"/>
          <a:ext cx="227340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3454560"/>
                    <a:ext cx="2273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3048120" y="4038480"/>
          <a:ext cx="3514680" cy="19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038480"/>
                    <a:ext cx="3514680" cy="19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2" name=""/>
          <p:cNvGrpSpPr/>
          <p:nvPr/>
        </p:nvGrpSpPr>
        <p:grpSpPr>
          <a:xfrm>
            <a:off x="4554360" y="3886200"/>
            <a:ext cx="1541160" cy="2206440"/>
            <a:chOff x="4554360" y="3886200"/>
            <a:chExt cx="1541160" cy="2206440"/>
          </a:xfrm>
        </p:grpSpPr>
        <p:sp>
          <p:nvSpPr>
            <p:cNvPr id="403" name=""/>
            <p:cNvSpPr/>
            <p:nvPr/>
          </p:nvSpPr>
          <p:spPr>
            <a:xfrm>
              <a:off x="4554360" y="3886200"/>
              <a:ext cx="1541160" cy="1207800"/>
            </a:xfrm>
            <a:custGeom>
              <a:avLst/>
              <a:gdLst/>
              <a:ahLst/>
              <a:rect l="l" t="t" r="r" b="b"/>
              <a:pathLst>
                <a:path w="971" h="761">
                  <a:moveTo>
                    <a:pt x="602" y="727"/>
                  </a:moveTo>
                  <a:cubicBezTo>
                    <a:pt x="653" y="761"/>
                    <a:pt x="707" y="745"/>
                    <a:pt x="763" y="727"/>
                  </a:cubicBezTo>
                  <a:cubicBezTo>
                    <a:pt x="791" y="699"/>
                    <a:pt x="816" y="692"/>
                    <a:pt x="848" y="670"/>
                  </a:cubicBezTo>
                  <a:cubicBezTo>
                    <a:pt x="854" y="661"/>
                    <a:pt x="860" y="651"/>
                    <a:pt x="867" y="642"/>
                  </a:cubicBezTo>
                  <a:cubicBezTo>
                    <a:pt x="875" y="632"/>
                    <a:pt x="887" y="624"/>
                    <a:pt x="895" y="614"/>
                  </a:cubicBezTo>
                  <a:cubicBezTo>
                    <a:pt x="909" y="596"/>
                    <a:pt x="933" y="557"/>
                    <a:pt x="933" y="557"/>
                  </a:cubicBezTo>
                  <a:cubicBezTo>
                    <a:pt x="956" y="489"/>
                    <a:pt x="941" y="517"/>
                    <a:pt x="971" y="472"/>
                  </a:cubicBezTo>
                  <a:cubicBezTo>
                    <a:pt x="968" y="396"/>
                    <a:pt x="969" y="320"/>
                    <a:pt x="961" y="245"/>
                  </a:cubicBezTo>
                  <a:cubicBezTo>
                    <a:pt x="944" y="78"/>
                    <a:pt x="729" y="26"/>
                    <a:pt x="593" y="0"/>
                  </a:cubicBezTo>
                  <a:cubicBezTo>
                    <a:pt x="508" y="3"/>
                    <a:pt x="423" y="3"/>
                    <a:pt x="338" y="9"/>
                  </a:cubicBezTo>
                  <a:cubicBezTo>
                    <a:pt x="318" y="10"/>
                    <a:pt x="301" y="24"/>
                    <a:pt x="281" y="28"/>
                  </a:cubicBezTo>
                  <a:cubicBezTo>
                    <a:pt x="202" y="46"/>
                    <a:pt x="124" y="64"/>
                    <a:pt x="45" y="85"/>
                  </a:cubicBezTo>
                  <a:cubicBezTo>
                    <a:pt x="0" y="151"/>
                    <a:pt x="5" y="257"/>
                    <a:pt x="74" y="302"/>
                  </a:cubicBezTo>
                  <a:cubicBezTo>
                    <a:pt x="104" y="394"/>
                    <a:pt x="213" y="471"/>
                    <a:pt x="291" y="519"/>
                  </a:cubicBezTo>
                  <a:cubicBezTo>
                    <a:pt x="302" y="526"/>
                    <a:pt x="309" y="539"/>
                    <a:pt x="319" y="548"/>
                  </a:cubicBezTo>
                  <a:cubicBezTo>
                    <a:pt x="364" y="586"/>
                    <a:pt x="329" y="549"/>
                    <a:pt x="376" y="576"/>
                  </a:cubicBezTo>
                  <a:cubicBezTo>
                    <a:pt x="439" y="612"/>
                    <a:pt x="455" y="625"/>
                    <a:pt x="527" y="642"/>
                  </a:cubicBezTo>
                  <a:cubicBezTo>
                    <a:pt x="588" y="683"/>
                    <a:pt x="575" y="643"/>
                    <a:pt x="602" y="72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03320" y="4905360"/>
              <a:ext cx="1368360" cy="1187280"/>
            </a:xfrm>
            <a:custGeom>
              <a:avLst/>
              <a:gdLst/>
              <a:ahLst/>
              <a:rect l="l" t="t" r="r" b="b"/>
              <a:pathLst>
                <a:path w="862" h="748">
                  <a:moveTo>
                    <a:pt x="14" y="453"/>
                  </a:moveTo>
                  <a:cubicBezTo>
                    <a:pt x="0" y="498"/>
                    <a:pt x="1" y="597"/>
                    <a:pt x="43" y="633"/>
                  </a:cubicBezTo>
                  <a:cubicBezTo>
                    <a:pt x="54" y="642"/>
                    <a:pt x="67" y="647"/>
                    <a:pt x="80" y="652"/>
                  </a:cubicBezTo>
                  <a:cubicBezTo>
                    <a:pt x="99" y="659"/>
                    <a:pt x="137" y="670"/>
                    <a:pt x="137" y="670"/>
                  </a:cubicBezTo>
                  <a:cubicBezTo>
                    <a:pt x="252" y="748"/>
                    <a:pt x="466" y="673"/>
                    <a:pt x="600" y="652"/>
                  </a:cubicBezTo>
                  <a:cubicBezTo>
                    <a:pt x="701" y="618"/>
                    <a:pt x="620" y="654"/>
                    <a:pt x="685" y="604"/>
                  </a:cubicBezTo>
                  <a:cubicBezTo>
                    <a:pt x="703" y="590"/>
                    <a:pt x="741" y="567"/>
                    <a:pt x="741" y="567"/>
                  </a:cubicBezTo>
                  <a:cubicBezTo>
                    <a:pt x="747" y="557"/>
                    <a:pt x="753" y="547"/>
                    <a:pt x="760" y="538"/>
                  </a:cubicBezTo>
                  <a:cubicBezTo>
                    <a:pt x="769" y="528"/>
                    <a:pt x="781" y="521"/>
                    <a:pt x="789" y="510"/>
                  </a:cubicBezTo>
                  <a:cubicBezTo>
                    <a:pt x="808" y="483"/>
                    <a:pt x="823" y="386"/>
                    <a:pt x="836" y="349"/>
                  </a:cubicBezTo>
                  <a:cubicBezTo>
                    <a:pt x="831" y="236"/>
                    <a:pt x="862" y="76"/>
                    <a:pt x="751" y="0"/>
                  </a:cubicBezTo>
                  <a:cubicBezTo>
                    <a:pt x="619" y="8"/>
                    <a:pt x="516" y="26"/>
                    <a:pt x="392" y="66"/>
                  </a:cubicBezTo>
                  <a:cubicBezTo>
                    <a:pt x="361" y="87"/>
                    <a:pt x="329" y="102"/>
                    <a:pt x="298" y="123"/>
                  </a:cubicBezTo>
                  <a:cubicBezTo>
                    <a:pt x="292" y="132"/>
                    <a:pt x="288" y="144"/>
                    <a:pt x="279" y="151"/>
                  </a:cubicBezTo>
                  <a:cubicBezTo>
                    <a:pt x="262" y="166"/>
                    <a:pt x="222" y="189"/>
                    <a:pt x="222" y="189"/>
                  </a:cubicBezTo>
                  <a:cubicBezTo>
                    <a:pt x="188" y="239"/>
                    <a:pt x="211" y="209"/>
                    <a:pt x="146" y="274"/>
                  </a:cubicBezTo>
                  <a:cubicBezTo>
                    <a:pt x="118" y="302"/>
                    <a:pt x="94" y="353"/>
                    <a:pt x="71" y="387"/>
                  </a:cubicBezTo>
                  <a:cubicBezTo>
                    <a:pt x="65" y="395"/>
                    <a:pt x="67" y="407"/>
                    <a:pt x="61" y="415"/>
                  </a:cubicBezTo>
                  <a:cubicBezTo>
                    <a:pt x="48" y="430"/>
                    <a:pt x="30" y="440"/>
                    <a:pt x="14" y="453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922440" y="3875040"/>
            <a:ext cx="20095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SUL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IRCUIT I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457200" y="685800"/>
          <a:ext cx="406728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406728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4867560" y="522360"/>
            <a:ext cx="396036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IRCUIT AFTER PARALLEL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19520" y="83808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679840" y="1600200"/>
          <a:ext cx="215640" cy="2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79840" y="1600200"/>
                    <a:ext cx="215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4952880" y="1828800"/>
          <a:ext cx="25275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828800"/>
                    <a:ext cx="2527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2743200" y="2895480"/>
          <a:ext cx="295920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895480"/>
                    <a:ext cx="2959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9" name=""/>
          <p:cNvGrpSpPr/>
          <p:nvPr/>
        </p:nvGrpSpPr>
        <p:grpSpPr>
          <a:xfrm>
            <a:off x="6031440" y="1508040"/>
            <a:ext cx="3106800" cy="2287800"/>
            <a:chOff x="6031440" y="1508040"/>
            <a:chExt cx="3106800" cy="2287800"/>
          </a:xfrm>
        </p:grpSpPr>
        <p:sp>
          <p:nvSpPr>
            <p:cNvPr id="420" name=""/>
            <p:cNvSpPr/>
            <p:nvPr/>
          </p:nvSpPr>
          <p:spPr>
            <a:xfrm>
              <a:off x="6031440" y="2971800"/>
              <a:ext cx="3106800" cy="82404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OTICE THAT BY KEE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FRACTION WE PRESE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ULL NUMERICAL ACCURA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0320" y="1508040"/>
              <a:ext cx="1325520" cy="1479600"/>
            </a:xfrm>
            <a:custGeom>
              <a:avLst/>
              <a:gdLst/>
              <a:ahLst/>
              <a:rect l="l" t="t" r="r" b="b"/>
              <a:pathLst>
                <a:path w="835" h="932">
                  <a:moveTo>
                    <a:pt x="629" y="932"/>
                  </a:moveTo>
                  <a:cubicBezTo>
                    <a:pt x="696" y="865"/>
                    <a:pt x="734" y="830"/>
                    <a:pt x="764" y="740"/>
                  </a:cubicBezTo>
                  <a:cubicBezTo>
                    <a:pt x="778" y="698"/>
                    <a:pt x="812" y="615"/>
                    <a:pt x="812" y="615"/>
                  </a:cubicBezTo>
                  <a:cubicBezTo>
                    <a:pt x="835" y="422"/>
                    <a:pt x="801" y="290"/>
                    <a:pt x="668" y="154"/>
                  </a:cubicBezTo>
                  <a:cubicBezTo>
                    <a:pt x="619" y="104"/>
                    <a:pt x="679" y="126"/>
                    <a:pt x="620" y="96"/>
                  </a:cubicBezTo>
                  <a:cubicBezTo>
                    <a:pt x="522" y="46"/>
                    <a:pt x="411" y="22"/>
                    <a:pt x="303" y="0"/>
                  </a:cubicBezTo>
                  <a:cubicBezTo>
                    <a:pt x="277" y="3"/>
                    <a:pt x="251" y="2"/>
                    <a:pt x="226" y="10"/>
                  </a:cubicBezTo>
                  <a:cubicBezTo>
                    <a:pt x="211" y="15"/>
                    <a:pt x="201" y="30"/>
                    <a:pt x="188" y="39"/>
                  </a:cubicBezTo>
                  <a:cubicBezTo>
                    <a:pt x="65" y="127"/>
                    <a:pt x="34" y="282"/>
                    <a:pt x="5" y="423"/>
                  </a:cubicBezTo>
                  <a:cubicBezTo>
                    <a:pt x="12" y="536"/>
                    <a:pt x="0" y="600"/>
                    <a:pt x="63" y="682"/>
                  </a:cubicBezTo>
                  <a:cubicBezTo>
                    <a:pt x="81" y="777"/>
                    <a:pt x="58" y="691"/>
                    <a:pt x="92" y="759"/>
                  </a:cubicBezTo>
                  <a:cubicBezTo>
                    <a:pt x="95" y="765"/>
                    <a:pt x="106" y="810"/>
                    <a:pt x="111" y="816"/>
                  </a:cubicBezTo>
                  <a:cubicBezTo>
                    <a:pt x="131" y="841"/>
                    <a:pt x="160" y="858"/>
                    <a:pt x="178" y="884"/>
                  </a:cubicBezTo>
                  <a:cubicBezTo>
                    <a:pt x="184" y="893"/>
                    <a:pt x="188" y="905"/>
                    <a:pt x="197" y="912"/>
                  </a:cubicBezTo>
                  <a:cubicBezTo>
                    <a:pt x="205" y="918"/>
                    <a:pt x="217" y="917"/>
                    <a:pt x="226" y="922"/>
                  </a:cubicBezTo>
                  <a:cubicBezTo>
                    <a:pt x="230" y="924"/>
                    <a:pt x="233" y="929"/>
                    <a:pt x="236" y="932"/>
                  </a:cubicBezTo>
                </a:path>
              </a:pathLst>
            </a:custGeom>
            <a:noFill/>
            <a:ln w="255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940520" y="5710320"/>
            <a:ext cx="1278000" cy="1143000"/>
            <a:chOff x="7940520" y="5710320"/>
            <a:chExt cx="1278000" cy="1143000"/>
          </a:xfrm>
        </p:grpSpPr>
        <p:pic>
          <p:nvPicPr>
            <p:cNvPr id="424" name="" descr=""/>
            <p:cNvPicPr/>
            <p:nvPr/>
          </p:nvPicPr>
          <p:blipFill>
            <a:blip r:embed="rId9"/>
            <a:stretch/>
          </p:blipFill>
          <p:spPr>
            <a:xfrm>
              <a:off x="83498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794052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YE DE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920960" y="0"/>
            <a:ext cx="4495680" cy="2209680"/>
            <a:chOff x="1920960" y="0"/>
            <a:chExt cx="4495680" cy="2209680"/>
          </a:xfrm>
        </p:grpSpPr>
        <p:graphicFrame>
          <p:nvGraphicFramePr>
            <p:cNvPr id="57" name=""/>
            <p:cNvGraphicFramePr/>
            <p:nvPr/>
          </p:nvGraphicFramePr>
          <p:xfrm>
            <a:off x="1920960" y="371520"/>
            <a:ext cx="4495680" cy="183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0960" y="371520"/>
                      <a:ext cx="44956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2087280" y="0"/>
              <a:ext cx="41277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IRST WE PRACTICE COMBINING RE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896000" y="528480"/>
            <a:ext cx="1444320" cy="1901880"/>
          </a:xfrm>
          <a:custGeom>
            <a:avLst/>
            <a:gdLst/>
            <a:ahLst/>
            <a:rect l="l" t="t" r="r" b="b"/>
            <a:pathLst>
              <a:path w="912" h="1200">
                <a:moveTo>
                  <a:pt x="0" y="1200"/>
                </a:moveTo>
                <a:lnTo>
                  <a:pt x="48" y="624"/>
                </a:lnTo>
                <a:lnTo>
                  <a:pt x="576" y="0"/>
                </a:lnTo>
                <a:lnTo>
                  <a:pt x="912" y="48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18600" y="230184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6k||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40120" y="380880"/>
            <a:ext cx="1600200" cy="2514600"/>
          </a:xfrm>
          <a:custGeom>
            <a:avLst/>
            <a:gdLst/>
            <a:ahLst/>
            <a:rect l="l" t="t" r="r" b="b"/>
            <a:pathLst>
              <a:path w="1008" h="1584">
                <a:moveTo>
                  <a:pt x="1008" y="0"/>
                </a:moveTo>
                <a:lnTo>
                  <a:pt x="48" y="0"/>
                </a:lnTo>
                <a:lnTo>
                  <a:pt x="0" y="158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1360" y="2682720"/>
            <a:ext cx="1674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10K,2K)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89600" y="952560"/>
            <a:ext cx="1563480" cy="1427760"/>
            <a:chOff x="4989600" y="952560"/>
            <a:chExt cx="1563480" cy="1427760"/>
          </a:xfrm>
        </p:grpSpPr>
        <p:sp>
          <p:nvSpPr>
            <p:cNvPr id="65" name=""/>
            <p:cNvSpPr/>
            <p:nvPr/>
          </p:nvSpPr>
          <p:spPr>
            <a:xfrm>
              <a:off x="4989600" y="952560"/>
              <a:ext cx="1563480" cy="1360440"/>
            </a:xfrm>
            <a:custGeom>
              <a:avLst/>
              <a:gdLst/>
              <a:ahLst/>
              <a:rect l="l" t="t" r="r" b="b"/>
              <a:pathLst>
                <a:path w="985" h="857">
                  <a:moveTo>
                    <a:pt x="874" y="0"/>
                  </a:moveTo>
                  <a:cubicBezTo>
                    <a:pt x="749" y="0"/>
                    <a:pt x="625" y="0"/>
                    <a:pt x="500" y="0"/>
                  </a:cubicBezTo>
                  <a:cubicBezTo>
                    <a:pt x="483" y="82"/>
                    <a:pt x="481" y="166"/>
                    <a:pt x="469" y="249"/>
                  </a:cubicBezTo>
                  <a:cubicBezTo>
                    <a:pt x="472" y="296"/>
                    <a:pt x="472" y="343"/>
                    <a:pt x="477" y="390"/>
                  </a:cubicBezTo>
                  <a:cubicBezTo>
                    <a:pt x="481" y="429"/>
                    <a:pt x="492" y="446"/>
                    <a:pt x="492" y="491"/>
                  </a:cubicBezTo>
                  <a:cubicBezTo>
                    <a:pt x="383" y="463"/>
                    <a:pt x="420" y="476"/>
                    <a:pt x="228" y="483"/>
                  </a:cubicBezTo>
                  <a:cubicBezTo>
                    <a:pt x="119" y="495"/>
                    <a:pt x="181" y="491"/>
                    <a:pt x="41" y="491"/>
                  </a:cubicBezTo>
                  <a:cubicBezTo>
                    <a:pt x="0" y="608"/>
                    <a:pt x="33" y="736"/>
                    <a:pt x="33" y="857"/>
                  </a:cubicBezTo>
                  <a:cubicBezTo>
                    <a:pt x="185" y="837"/>
                    <a:pt x="339" y="835"/>
                    <a:pt x="492" y="826"/>
                  </a:cubicBezTo>
                  <a:cubicBezTo>
                    <a:pt x="577" y="809"/>
                    <a:pt x="518" y="819"/>
                    <a:pt x="672" y="803"/>
                  </a:cubicBezTo>
                  <a:cubicBezTo>
                    <a:pt x="713" y="799"/>
                    <a:pt x="755" y="794"/>
                    <a:pt x="796" y="787"/>
                  </a:cubicBezTo>
                  <a:cubicBezTo>
                    <a:pt x="812" y="784"/>
                    <a:pt x="843" y="779"/>
                    <a:pt x="843" y="779"/>
                  </a:cubicBezTo>
                  <a:cubicBezTo>
                    <a:pt x="883" y="681"/>
                    <a:pt x="911" y="535"/>
                    <a:pt x="929" y="429"/>
                  </a:cubicBezTo>
                  <a:cubicBezTo>
                    <a:pt x="921" y="130"/>
                    <a:pt x="985" y="173"/>
                    <a:pt x="867" y="55"/>
                  </a:cubicBezTo>
                  <a:cubicBezTo>
                    <a:pt x="869" y="63"/>
                    <a:pt x="874" y="78"/>
                    <a:pt x="874" y="7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644080" y="1905120"/>
              <a:ext cx="820800" cy="475200"/>
              <a:chOff x="5644080" y="1905120"/>
              <a:chExt cx="820800" cy="475200"/>
            </a:xfrm>
          </p:grpSpPr>
          <p:sp>
            <p:nvSpPr>
              <p:cNvPr id="67" name=""/>
              <p:cNvSpPr/>
              <p:nvPr/>
            </p:nvSpPr>
            <p:spPr>
              <a:xfrm>
                <a:off x="5644080" y="2073240"/>
                <a:ext cx="82080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SE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" name=""/>
                  <p:cNvSpPr txBox="1"/>
                  <p:nvPr/>
                </p:nvSpPr>
                <p:spPr>
                  <a:xfrm>
                    <a:off x="6035760" y="1905120"/>
                    <a:ext cx="252360" cy="20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r>
                          <m:t xml:space="preserve">k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9" name=""/>
          <p:cNvGrpSpPr/>
          <p:nvPr/>
        </p:nvGrpSpPr>
        <p:grpSpPr>
          <a:xfrm>
            <a:off x="1844640" y="2338560"/>
            <a:ext cx="4165560" cy="2309760"/>
            <a:chOff x="1844640" y="2338560"/>
            <a:chExt cx="4165560" cy="2309760"/>
          </a:xfrm>
        </p:grpSpPr>
        <p:graphicFrame>
          <p:nvGraphicFramePr>
            <p:cNvPr id="70" name=""/>
            <p:cNvGraphicFramePr/>
            <p:nvPr/>
          </p:nvGraphicFramePr>
          <p:xfrm>
            <a:off x="1844640" y="3024360"/>
            <a:ext cx="4165560" cy="16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4640" y="3024360"/>
                      <a:ext cx="4165560" cy="16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3116160" y="233856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99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24240" y="3068640"/>
            <a:ext cx="1497240" cy="1573200"/>
          </a:xfrm>
          <a:custGeom>
            <a:avLst/>
            <a:gdLst/>
            <a:ahLst/>
            <a:rect l="l" t="t" r="r" b="b"/>
            <a:pathLst>
              <a:path w="943" h="991">
                <a:moveTo>
                  <a:pt x="904" y="78"/>
                </a:moveTo>
                <a:cubicBezTo>
                  <a:pt x="812" y="31"/>
                  <a:pt x="640" y="13"/>
                  <a:pt x="538" y="0"/>
                </a:cubicBezTo>
                <a:cubicBezTo>
                  <a:pt x="76" y="7"/>
                  <a:pt x="237" y="7"/>
                  <a:pt x="55" y="7"/>
                </a:cubicBezTo>
                <a:cubicBezTo>
                  <a:pt x="48" y="39"/>
                  <a:pt x="41" y="70"/>
                  <a:pt x="32" y="101"/>
                </a:cubicBezTo>
                <a:cubicBezTo>
                  <a:pt x="0" y="384"/>
                  <a:pt x="49" y="576"/>
                  <a:pt x="86" y="834"/>
                </a:cubicBezTo>
                <a:cubicBezTo>
                  <a:pt x="89" y="883"/>
                  <a:pt x="83" y="934"/>
                  <a:pt x="94" y="982"/>
                </a:cubicBezTo>
                <a:cubicBezTo>
                  <a:pt x="96" y="991"/>
                  <a:pt x="108" y="969"/>
                  <a:pt x="117" y="966"/>
                </a:cubicBezTo>
                <a:cubicBezTo>
                  <a:pt x="129" y="961"/>
                  <a:pt x="143" y="959"/>
                  <a:pt x="156" y="958"/>
                </a:cubicBezTo>
                <a:cubicBezTo>
                  <a:pt x="311" y="941"/>
                  <a:pt x="298" y="952"/>
                  <a:pt x="421" y="927"/>
                </a:cubicBezTo>
                <a:cubicBezTo>
                  <a:pt x="589" y="893"/>
                  <a:pt x="775" y="896"/>
                  <a:pt x="943" y="896"/>
                </a:cubicBez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73640" y="4243320"/>
                <a:ext cx="1143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444840" y="2971800"/>
            <a:ext cx="2743200" cy="1676520"/>
          </a:xfrm>
          <a:custGeom>
            <a:avLst/>
            <a:gdLst/>
            <a:ahLst/>
            <a:rect l="l" t="t" r="r" b="b"/>
            <a:pathLst>
              <a:path w="1728" h="1056">
                <a:moveTo>
                  <a:pt x="1728" y="48"/>
                </a:moveTo>
                <a:lnTo>
                  <a:pt x="0" y="0"/>
                </a:lnTo>
                <a:lnTo>
                  <a:pt x="48" y="288"/>
                </a:lnTo>
                <a:lnTo>
                  <a:pt x="528" y="768"/>
                </a:lnTo>
                <a:lnTo>
                  <a:pt x="576" y="1056"/>
                </a:lnTo>
                <a:lnTo>
                  <a:pt x="1632" y="1056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68320" y="4800600"/>
          <a:ext cx="4267440" cy="17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8320" y="4800600"/>
                    <a:ext cx="4267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3600360" y="4952880"/>
            <a:ext cx="2816280" cy="1600200"/>
            <a:chOff x="3600360" y="4952880"/>
            <a:chExt cx="2816280" cy="1600200"/>
          </a:xfrm>
        </p:grpSpPr>
        <p:sp>
          <p:nvSpPr>
            <p:cNvPr id="79" name=""/>
            <p:cNvSpPr/>
            <p:nvPr/>
          </p:nvSpPr>
          <p:spPr>
            <a:xfrm>
              <a:off x="3600360" y="4952880"/>
              <a:ext cx="2816280" cy="1600200"/>
            </a:xfrm>
            <a:custGeom>
              <a:avLst/>
              <a:gdLst/>
              <a:ahLst/>
              <a:rect l="l" t="t" r="r" b="b"/>
              <a:pathLst>
                <a:path w="1776" h="1008">
                  <a:moveTo>
                    <a:pt x="1728" y="96"/>
                  </a:moveTo>
                  <a:lnTo>
                    <a:pt x="240" y="0"/>
                  </a:lnTo>
                  <a:lnTo>
                    <a:pt x="0" y="768"/>
                  </a:lnTo>
                  <a:lnTo>
                    <a:pt x="0" y="1008"/>
                  </a:lnTo>
                  <a:lnTo>
                    <a:pt x="1536" y="1008"/>
                  </a:lnTo>
                  <a:lnTo>
                    <a:pt x="1776" y="96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5578560" y="6280200"/>
                  <a:ext cx="41760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2835360" y="4800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2256" y="0"/>
                </a:moveTo>
                <a:lnTo>
                  <a:pt x="192" y="48"/>
                </a:lnTo>
                <a:lnTo>
                  <a:pt x="240" y="336"/>
                </a:lnTo>
                <a:lnTo>
                  <a:pt x="0" y="432"/>
                </a:lnTo>
                <a:lnTo>
                  <a:pt x="0" y="1200"/>
                </a:lnTo>
                <a:lnTo>
                  <a:pt x="2160" y="1200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35360" y="6435720"/>
                <a:ext cx="30456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68320" y="5715000"/>
                <a:ext cx="5781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82724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5244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39909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28600" y="9360"/>
          <a:ext cx="838188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360"/>
                    <a:ext cx="838188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0" y="4952880"/>
          <a:ext cx="4791240" cy="15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952880"/>
                    <a:ext cx="479124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819520" y="4800600"/>
            <a:ext cx="190476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144" y="0"/>
                </a:moveTo>
                <a:lnTo>
                  <a:pt x="48" y="96"/>
                </a:lnTo>
                <a:lnTo>
                  <a:pt x="0" y="1104"/>
                </a:lnTo>
                <a:lnTo>
                  <a:pt x="1200" y="1296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86000" y="6324480"/>
                <a:ext cx="1359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676520" y="4572000"/>
            <a:ext cx="1904760" cy="2743200"/>
          </a:xfrm>
          <a:custGeom>
            <a:avLst/>
            <a:gdLst/>
            <a:ahLst/>
            <a:rect l="l" t="t" r="r" b="b"/>
            <a:pathLst>
              <a:path w="1200" h="1728">
                <a:moveTo>
                  <a:pt x="960" y="0"/>
                </a:moveTo>
                <a:lnTo>
                  <a:pt x="0" y="1104"/>
                </a:lnTo>
                <a:lnTo>
                  <a:pt x="0" y="1344"/>
                </a:lnTo>
                <a:lnTo>
                  <a:pt x="1200" y="172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76720" y="4572000"/>
                <a:ext cx="11682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6320" y="5943600"/>
                <a:ext cx="12952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3200400" y="4876920"/>
            <a:ext cx="1371600" cy="1600200"/>
            <a:chOff x="3200400" y="4876920"/>
            <a:chExt cx="1371600" cy="1600200"/>
          </a:xfrm>
        </p:grpSpPr>
        <p:sp>
          <p:nvSpPr>
            <p:cNvPr id="97" name=""/>
            <p:cNvSpPr/>
            <p:nvPr/>
          </p:nvSpPr>
          <p:spPr>
            <a:xfrm>
              <a:off x="3200400" y="4876920"/>
              <a:ext cx="1371600" cy="1600200"/>
            </a:xfrm>
            <a:custGeom>
              <a:avLst/>
              <a:gdLst/>
              <a:ahLst/>
              <a:rect l="l" t="t" r="r" b="b"/>
              <a:pathLst>
                <a:path w="864" h="1008">
                  <a:moveTo>
                    <a:pt x="768" y="0"/>
                  </a:moveTo>
                  <a:lnTo>
                    <a:pt x="0" y="48"/>
                  </a:lnTo>
                  <a:lnTo>
                    <a:pt x="48" y="336"/>
                  </a:lnTo>
                  <a:lnTo>
                    <a:pt x="480" y="336"/>
                  </a:lnTo>
                  <a:lnTo>
                    <a:pt x="480" y="1008"/>
                  </a:lnTo>
                  <a:lnTo>
                    <a:pt x="864" y="100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4191120" y="4952880"/>
            <a:ext cx="355320" cy="203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91120" y="4952880"/>
                      <a:ext cx="355320" cy="20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376236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3228840" y="6548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475960" y="5018040"/>
            <a:ext cx="3528360" cy="1830600"/>
            <a:chOff x="5475960" y="5018040"/>
            <a:chExt cx="3528360" cy="1830600"/>
          </a:xfrm>
        </p:grpSpPr>
        <p:pic>
          <p:nvPicPr>
            <p:cNvPr id="103" name="" descr=""/>
            <p:cNvPicPr/>
            <p:nvPr/>
          </p:nvPicPr>
          <p:blipFill>
            <a:blip r:embed="rId7"/>
            <a:stretch/>
          </p:blipFill>
          <p:spPr>
            <a:xfrm>
              <a:off x="8272440" y="6481800"/>
              <a:ext cx="7318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475960" y="5018040"/>
              <a:ext cx="310680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f things get confusing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351000"/>
          <a:ext cx="367668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1000"/>
                    <a:ext cx="367668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32920" y="65160"/>
            <a:ext cx="4569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S COMBINATION SERIES-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45720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0" y="0"/>
                </a:moveTo>
                <a:lnTo>
                  <a:pt x="0" y="384"/>
                </a:lnTo>
                <a:lnTo>
                  <a:pt x="432" y="384"/>
                </a:lnTo>
                <a:lnTo>
                  <a:pt x="432" y="1008"/>
                </a:lnTo>
                <a:lnTo>
                  <a:pt x="864" y="960"/>
                </a:lnTo>
                <a:lnTo>
                  <a:pt x="768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29000" y="457200"/>
                <a:ext cx="3538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457200" y="3733920"/>
          <a:ext cx="3371760" cy="28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33920"/>
                    <a:ext cx="337176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992240" y="3581280"/>
            <a:ext cx="1946520" cy="1971720"/>
          </a:xfrm>
          <a:custGeom>
            <a:avLst/>
            <a:gdLst/>
            <a:ahLst/>
            <a:rect l="l" t="t" r="r" b="b"/>
            <a:pathLst>
              <a:path w="1226" h="1242">
                <a:moveTo>
                  <a:pt x="0" y="35"/>
                </a:moveTo>
                <a:cubicBezTo>
                  <a:pt x="3" y="408"/>
                  <a:pt x="23" y="803"/>
                  <a:pt x="23" y="1181"/>
                </a:cubicBezTo>
                <a:cubicBezTo>
                  <a:pt x="81" y="1242"/>
                  <a:pt x="16" y="1184"/>
                  <a:pt x="202" y="1181"/>
                </a:cubicBezTo>
                <a:cubicBezTo>
                  <a:pt x="394" y="1178"/>
                  <a:pt x="587" y="1186"/>
                  <a:pt x="779" y="1189"/>
                </a:cubicBezTo>
                <a:cubicBezTo>
                  <a:pt x="921" y="1196"/>
                  <a:pt x="1065" y="1220"/>
                  <a:pt x="1207" y="1220"/>
                </a:cubicBezTo>
                <a:cubicBezTo>
                  <a:pt x="1226" y="956"/>
                  <a:pt x="1221" y="1073"/>
                  <a:pt x="1207" y="596"/>
                </a:cubicBezTo>
                <a:cubicBezTo>
                  <a:pt x="1192" y="79"/>
                  <a:pt x="1203" y="473"/>
                  <a:pt x="1184" y="269"/>
                </a:cubicBezTo>
                <a:cubicBezTo>
                  <a:pt x="1181" y="233"/>
                  <a:pt x="1180" y="196"/>
                  <a:pt x="1176" y="160"/>
                </a:cubicBezTo>
                <a:cubicBezTo>
                  <a:pt x="1175" y="149"/>
                  <a:pt x="1168" y="129"/>
                  <a:pt x="1168" y="129"/>
                </a:cubicBezTo>
                <a:lnTo>
                  <a:pt x="41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22640" y="3727440"/>
                <a:ext cx="1257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87360" y="5397480"/>
                <a:ext cx="1295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746240" y="4654440"/>
            <a:ext cx="41277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SERIES IF THEY CAR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CTLY THE SAM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70640" y="5340240"/>
            <a:ext cx="423468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PARALLEL IF THEY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EXACTLY BETWEEN THE SAME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67560" y="979560"/>
            <a:ext cx="3838320" cy="8240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the drawing gets confusing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draw the reduced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d start 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6320" y="135000"/>
          <a:ext cx="319860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5000"/>
                    <a:ext cx="319860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7000" y="41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 “INVERSE SERIES PARALLEL COMBIN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962520" y="1143000"/>
                <a:ext cx="48765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3956040" y="1955880"/>
            <a:ext cx="4664160" cy="582480"/>
            <a:chOff x="3956040" y="1955880"/>
            <a:chExt cx="4664160" cy="58248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956040" y="1955880"/>
                  <a:ext cx="30099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QUIRED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7010280" y="2133720"/>
                  <a:ext cx="160992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6320" y="3727440"/>
                <a:ext cx="4647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62120" y="4495680"/>
                <a:ext cx="3365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 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67</m:t>
                    </m:r>
                    <m:r>
                      <m:t xml:space="preserve">Ω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4876920" y="3276720"/>
          <a:ext cx="1649160" cy="19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76720"/>
                    <a:ext cx="1649160" cy="1900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58000" y="3352680"/>
          <a:ext cx="1816200" cy="19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352680"/>
                    <a:ext cx="1816200" cy="1965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23440" y="762120"/>
            <a:ext cx="1354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9240" y="3368520"/>
            <a:ext cx="2100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T SO 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80880" y="141120"/>
            <a:ext cx="322884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the fina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a proper comb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796480" y="330120"/>
            <a:ext cx="402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FFECT OF RESISTOR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" y="992160"/>
          <a:ext cx="312408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2160"/>
                    <a:ext cx="3124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886200" y="965160"/>
                <a:ext cx="43434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MINAL  RESISTOR VALUE: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k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STOR TOLERANCE:  10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257720" y="1893960"/>
            <a:ext cx="371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ANGES FOR CURRENT AND POW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0" y="4267080"/>
                <a:ext cx="4788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CURRENT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198440" y="5715000"/>
            <a:ext cx="711504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RANGES FOR CURRENT AND POWER ARE DETERMINED BY THE TOLER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UT THE PERCENTAGE OF CHANGE MAY BE DIFFERENT FROM THE PERCEN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OLERANCE. THE RANGES MAY NOT EVEN BE 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58720" y="3124080"/>
            <a:ext cx="8407440" cy="800280"/>
            <a:chOff x="558720" y="3124080"/>
            <a:chExt cx="8407440" cy="80028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58720" y="3352680"/>
                  <a:ext cx="4013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CURRENT: </m:t>
                      </m:r>
                      <m:r>
                        <m:t xml:space="preserve"> </m:t>
                      </m:r>
                      <m:limUpp>
                        <m:e>
                          <m:r>
                            <m:t xml:space="preserve">I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04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863960" y="3124080"/>
                  <a:ext cx="410220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POWER:  </m:t>
                      </m:r>
                      <m:limUpp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W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876920" y="4572000"/>
                <a:ext cx="3606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POWE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POWER:  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28880" y="152280"/>
            <a:ext cx="70387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 WITH SERIES-PARALLEL RESISTOR 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06880" y="2038320"/>
            <a:ext cx="530136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SERIES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 FROM THE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PARALLEL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FROM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6880" y="914400"/>
            <a:ext cx="517932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BINATION OF COMPONENTS CAN RE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PLEXITY OF A CIRCUIT AND RENDER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ITABLE FOR ANALYSIS USING THE BAS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OLS DEVELOPED SO F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06160" y="3630600"/>
            <a:ext cx="4813920" cy="1797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DUCE COMPLEXITY UNTIL TH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ECOMES SIMPLE ENOUGH TO ANALY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E DATA FROM SIMPLIFIED CIRCU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PUTE DESIRED VARIABLES IN 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IRCUIT - HENCE ONE MUST KEEP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F ANY RELATIONSHIP BETWEE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4343400" y="1397160"/>
          <a:ext cx="464832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9716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0" y="2209680"/>
          <a:ext cx="408456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40845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533520"/>
          <a:ext cx="4648320" cy="157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3352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527720" y="533520"/>
            <a:ext cx="44478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REDUCE IT TO A SINGLE LOOP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380880"/>
            <a:ext cx="221004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0"/>
          <a:ext cx="662940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66294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2971800" y="533520"/>
            <a:ext cx="1371600" cy="1600200"/>
            <a:chOff x="2971800" y="533520"/>
            <a:chExt cx="1371600" cy="1600200"/>
          </a:xfrm>
        </p:grpSpPr>
        <p:sp>
          <p:nvSpPr>
            <p:cNvPr id="172" name=""/>
            <p:cNvSpPr/>
            <p:nvPr/>
          </p:nvSpPr>
          <p:spPr>
            <a:xfrm>
              <a:off x="2971800" y="533520"/>
              <a:ext cx="1371600" cy="1600200"/>
            </a:xfrm>
            <a:custGeom>
              <a:avLst/>
              <a:gdLst/>
              <a:ahLst/>
              <a:rect l="l" t="t" r="r" b="b"/>
              <a:pathLst>
                <a:path w="864" h="1008">
                  <a:moveTo>
                    <a:pt x="0" y="96"/>
                  </a:moveTo>
                  <a:lnTo>
                    <a:pt x="0" y="432"/>
                  </a:lnTo>
                  <a:lnTo>
                    <a:pt x="384" y="576"/>
                  </a:lnTo>
                  <a:lnTo>
                    <a:pt x="336" y="1008"/>
                  </a:lnTo>
                  <a:lnTo>
                    <a:pt x="864" y="960"/>
                  </a:lnTo>
                  <a:lnTo>
                    <a:pt x="864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3505320" y="533520"/>
                  <a:ext cx="380880" cy="22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4" name=""/>
          <p:cNvGrpSpPr/>
          <p:nvPr/>
        </p:nvGrpSpPr>
        <p:grpSpPr>
          <a:xfrm>
            <a:off x="2666880" y="457200"/>
            <a:ext cx="1828800" cy="1828800"/>
            <a:chOff x="2666880" y="457200"/>
            <a:chExt cx="1828800" cy="1828800"/>
          </a:xfrm>
        </p:grpSpPr>
        <p:sp>
          <p:nvSpPr>
            <p:cNvPr id="175" name=""/>
            <p:cNvSpPr/>
            <p:nvPr/>
          </p:nvSpPr>
          <p:spPr>
            <a:xfrm>
              <a:off x="2666880" y="457200"/>
              <a:ext cx="1828800" cy="1828800"/>
            </a:xfrm>
            <a:custGeom>
              <a:avLst/>
              <a:gdLst/>
              <a:ahLst/>
              <a:rect l="l" t="t" r="r" b="b"/>
              <a:pathLst>
                <a:path w="1152" h="1152">
                  <a:moveTo>
                    <a:pt x="816" y="0"/>
                  </a:moveTo>
                  <a:lnTo>
                    <a:pt x="0" y="0"/>
                  </a:lnTo>
                  <a:lnTo>
                    <a:pt x="0" y="1152"/>
                  </a:lnTo>
                  <a:lnTo>
                    <a:pt x="1152" y="1152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2666880" y="457200"/>
                  <a:ext cx="7221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7" name=""/>
          <p:cNvGrpSpPr/>
          <p:nvPr/>
        </p:nvGrpSpPr>
        <p:grpSpPr>
          <a:xfrm>
            <a:off x="1981080" y="2286000"/>
            <a:ext cx="1752840" cy="1752480"/>
            <a:chOff x="1981080" y="2286000"/>
            <a:chExt cx="1752840" cy="1752480"/>
          </a:xfrm>
        </p:grpSpPr>
        <p:sp>
          <p:nvSpPr>
            <p:cNvPr id="178" name=""/>
            <p:cNvSpPr/>
            <p:nvPr/>
          </p:nvSpPr>
          <p:spPr>
            <a:xfrm>
              <a:off x="1981080" y="2286000"/>
              <a:ext cx="1752840" cy="1752480"/>
            </a:xfrm>
            <a:custGeom>
              <a:avLst/>
              <a:gdLst/>
              <a:ahLst/>
              <a:rect l="l" t="t" r="r" b="b"/>
              <a:pathLst>
                <a:path w="1104" h="1104">
                  <a:moveTo>
                    <a:pt x="0" y="0"/>
                  </a:moveTo>
                  <a:lnTo>
                    <a:pt x="48" y="528"/>
                  </a:lnTo>
                  <a:lnTo>
                    <a:pt x="528" y="528"/>
                  </a:lnTo>
                  <a:lnTo>
                    <a:pt x="528" y="1104"/>
                  </a:lnTo>
                  <a:lnTo>
                    <a:pt x="1104" y="1104"/>
                  </a:lnTo>
                  <a:lnTo>
                    <a:pt x="1104" y="48"/>
                  </a:lnTo>
                  <a:lnTo>
                    <a:pt x="48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2438280" y="2286000"/>
                  <a:ext cx="38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" name=""/>
          <p:cNvGrpSpPr/>
          <p:nvPr/>
        </p:nvGrpSpPr>
        <p:grpSpPr>
          <a:xfrm>
            <a:off x="1447920" y="2133720"/>
            <a:ext cx="1295280" cy="2133360"/>
            <a:chOff x="1447920" y="2133720"/>
            <a:chExt cx="1295280" cy="2133360"/>
          </a:xfrm>
        </p:grpSpPr>
        <p:sp>
          <p:nvSpPr>
            <p:cNvPr id="181" name=""/>
            <p:cNvSpPr/>
            <p:nvPr/>
          </p:nvSpPr>
          <p:spPr>
            <a:xfrm>
              <a:off x="1447920" y="2133720"/>
              <a:ext cx="1295280" cy="2133360"/>
            </a:xfrm>
            <a:custGeom>
              <a:avLst/>
              <a:gdLst/>
              <a:ahLst/>
              <a:rect l="l" t="t" r="r" b="b"/>
              <a:pathLst>
                <a:path w="816" h="1344">
                  <a:moveTo>
                    <a:pt x="576" y="48"/>
                  </a:moveTo>
                  <a:lnTo>
                    <a:pt x="144" y="0"/>
                  </a:lnTo>
                  <a:lnTo>
                    <a:pt x="0" y="1296"/>
                  </a:lnTo>
                  <a:lnTo>
                    <a:pt x="816" y="1344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1447920" y="3932280"/>
                  <a:ext cx="7095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83" name=""/>
          <p:cNvGraphicFramePr/>
          <p:nvPr/>
        </p:nvGraphicFramePr>
        <p:xfrm>
          <a:off x="609480" y="4495680"/>
          <a:ext cx="3021120" cy="201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495680"/>
                    <a:ext cx="3021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752480" y="5773680"/>
                <a:ext cx="838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971800" y="5987880"/>
                <a:ext cx="1270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519800" y="914400"/>
            <a:ext cx="4447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: “BACKTRACK” USING KVL, KCL OH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1371600"/>
            <a:ext cx="38088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1981080"/>
            <a:ext cx="457200" cy="5335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343400" y="3048120"/>
                <a:ext cx="1562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248520" y="2971800"/>
                <a:ext cx="1904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324480" y="1371600"/>
            <a:ext cx="3049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343400" y="3652920"/>
                <a:ext cx="19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3124080" y="2666880"/>
            <a:ext cx="1219320" cy="990720"/>
            <a:chOff x="3124080" y="2666880"/>
            <a:chExt cx="1219320" cy="990720"/>
          </a:xfrm>
        </p:grpSpPr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3124080" y="2666880"/>
                  <a:ext cx="2826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"/>
            <p:cNvSpPr/>
            <p:nvPr/>
          </p:nvSpPr>
          <p:spPr>
            <a:xfrm>
              <a:off x="3429000" y="2895480"/>
              <a:ext cx="91440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486480" y="3444840"/>
            <a:ext cx="1994040" cy="1163520"/>
            <a:chOff x="6486480" y="3444840"/>
            <a:chExt cx="1994040" cy="1163520"/>
          </a:xfrm>
        </p:grpSpPr>
        <p:sp>
          <p:nvSpPr>
            <p:cNvPr id="198" name=""/>
            <p:cNvSpPr/>
            <p:nvPr/>
          </p:nvSpPr>
          <p:spPr>
            <a:xfrm>
              <a:off x="6486480" y="3444840"/>
              <a:ext cx="19940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…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THER OPTIONS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6858000" y="3733920"/>
                  <a:ext cx="121932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∗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43400" y="4572000"/>
                <a:ext cx="23623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HM'S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65120" y="198360"/>
          <a:ext cx="31590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98360"/>
                    <a:ext cx="3159000" cy="23637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905120" y="838080"/>
            <a:ext cx="1066680" cy="175284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48"/>
                </a:moveTo>
                <a:lnTo>
                  <a:pt x="0" y="1104"/>
                </a:lnTo>
                <a:lnTo>
                  <a:pt x="672" y="1104"/>
                </a:lnTo>
                <a:lnTo>
                  <a:pt x="672" y="0"/>
                </a:lnTo>
                <a:lnTo>
                  <a:pt x="48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590920" y="685800"/>
                <a:ext cx="10285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54080" y="2714760"/>
                <a:ext cx="4076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9" name=""/>
          <p:cNvGraphicFramePr/>
          <p:nvPr/>
        </p:nvGraphicFramePr>
        <p:xfrm>
          <a:off x="4724280" y="3276720"/>
          <a:ext cx="313848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76720"/>
                    <a:ext cx="313848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172200" y="3809880"/>
            <a:ext cx="1676520" cy="152424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0" y="48"/>
                </a:moveTo>
                <a:lnTo>
                  <a:pt x="48" y="432"/>
                </a:lnTo>
                <a:lnTo>
                  <a:pt x="576" y="480"/>
                </a:lnTo>
                <a:lnTo>
                  <a:pt x="624" y="960"/>
                </a:lnTo>
                <a:lnTo>
                  <a:pt x="1056" y="960"/>
                </a:lnTo>
                <a:lnTo>
                  <a:pt x="1056" y="0"/>
                </a:lnTo>
                <a:lnTo>
                  <a:pt x="96" y="48"/>
                </a:lnTo>
              </a:path>
            </a:pathLst>
          </a:custGeom>
          <a:noFill/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934320" y="3733920"/>
                <a:ext cx="114300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724280" y="5521320"/>
                <a:ext cx="4114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RRENT DIVIDER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978800" y="717480"/>
            <a:ext cx="34725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ARNING  BY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3:24:44Z</dcterms:created>
  <dc:creator>Jorge Aravena</dc:creator>
  <dc:description/>
  <dc:language>en-US</dc:language>
  <cp:lastModifiedBy>Jorge Aravena</cp:lastModifiedBy>
  <dcterms:modified xsi:type="dcterms:W3CDTF">2004-07-25T15:08:49Z</dcterms:modified>
  <cp:revision>24</cp:revision>
  <dc:subject/>
  <dc:title>Series/Parallel Resistor Reduction</dc:title>
</cp:coreProperties>
</file>